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DF0C00-5B6E-4264-B98D-62F8DDBF11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4857C-2C8E-42A6-8CD4-4BC27A68F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946236-5E9C-47E3-85B7-F53FD1387B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9FA91D-38FD-4CCC-8DB3-E2BAB37094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4B159-8594-4A8D-9C9A-DDA933400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719B4-6298-4A83-8E86-E61813F64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86072-C431-46C2-B5BF-C398DCFB9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F4BF2-23EB-4FAA-87B5-151AFF2C8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6D08B-A922-415F-8017-7387B9763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FA693-FF84-475A-9E1A-148673B5C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132AE-8FA3-443E-B049-8C59EA281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A2117-5DF6-4687-AAA6-C6A4B34961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C47B9-7821-4C90-B4D6-8EFA714C7D26}"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s://www.baidu.com/s?wd=&#25104;&#26412;&#36153;&#29992;&amp;tn=44039180_cpr&amp;fenlei=mv6quAkxTZn0IZRqIHckPjm4nH00T1d9ryRdmvR1rjbdnvmdrADY0ZwV5Hcvrjm3rH6sPfKWUMw85HfYnjn4nH6sgvPsT6KdThsqpZwYTjCEQLGCpyw9Uz4Bmy-bIi4WUvYETgN-TLwGUv3EnH0Yrj6srHDdnjnzrH0sPWDLrf"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办学成本与效益研究</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9343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罗文、薛建宏、曹佩等</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17.1.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二、研究成果的创新点</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加强内部控制，完善学校治理结构。防范教育成本不效益，提高教育成本效益的制度保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课题研究成果的社会效益和经济效益</a:t>
            </a:r>
            <a:endParaRPr b="0" lang="en-US" sz="32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凸现成本意识，构建成本效益管理模式。减少教育成本非效益、防范教育成本不效益，提高教育成本效益的核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统一各类成本口径，正确核算教育成本；</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硬化全面预算，全程控制教育成本；</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引入激励机制，科学考评教育成本；</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重点关注不良教育成本。</a:t>
            </a:r>
            <a:r>
              <a:rPr b="0" lang="en-US" sz="3200" spc="-1" strike="noStrike">
                <a:solidFill>
                  <a:srgbClr val="000000"/>
                </a:solidFill>
                <a:latin typeface="Arial"/>
              </a:rPr>
              <a:t> </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黑体"/>
                <a:ea typeface="黑体"/>
              </a:rPr>
              <a:t>                          </a:t>
            </a:r>
            <a:r>
              <a:rPr b="1" lang="zh-CN" sz="6000" spc="-1" strike="noStrike">
                <a:solidFill>
                  <a:srgbClr val="000000"/>
                </a:solidFill>
                <a:latin typeface="黑体"/>
                <a:ea typeface="黑体"/>
              </a:rPr>
              <a:t>谢谢</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研究成果的主要内容及主要观点</a:t>
            </a:r>
            <a:endParaRPr b="0" lang="en-US" sz="32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研究成果的主要内容</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当前，高校办学成本核算已经越来越多地受到政府、高等院校管理者、社会各阶层人士以及消费者的密切关注，尤其是高职院校，特殊的办学性质决定了其专业办学成本必然高于普通院校。但具体的高职办学成本是多少？如何才能给予一个可供参考的标准和依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0000"/>
                </a:solidFill>
                <a:latin typeface="黑体"/>
                <a:ea typeface="黑体"/>
              </a:rPr>
              <a:t>一、研究成果的主要内容及主要观点</a:t>
            </a:r>
            <a:br>
              <a:rPr sz="3200"/>
            </a:br>
            <a:endParaRPr b="0" lang="en-US" sz="3200" spc="-1" strike="noStrike">
              <a:solidFill>
                <a:srgbClr val="000000"/>
              </a:solidFill>
              <a:latin typeface="Arial"/>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办学成本作为经济范畴，是培养学生所耗费的社会劳动，包括物化劳动和活劳动，其货币表现为由社会和受教育者个人或家庭，直接和间接支付的培养学生的全部费用。但是，不是说投入到学校或社会的所有教育资源，均属办学成本范畴，只有那些用于培养学生的，可以通过直接归集与间接分配到学生上的可用货币计量的资源，才构成办学成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Arial"/>
              </a:rPr>
              <a:t>一、研究成果的主要内容及主要观点</a:t>
            </a:r>
            <a:br>
              <a:rPr sz="3200"/>
            </a:br>
            <a:endParaRPr b="0" lang="en-US" sz="32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严格说来，办学成本包括三个方面：</a:t>
            </a:r>
            <a:r>
              <a:rPr b="0" lang="en-US" sz="3200" spc="-1" strike="noStrike">
                <a:solidFill>
                  <a:srgbClr val="000000"/>
                </a:solidFill>
                <a:latin typeface="Arial"/>
              </a:rPr>
              <a:t>1</a:t>
            </a:r>
            <a:r>
              <a:rPr b="0" lang="zh-CN" sz="3200" spc="-1" strike="noStrike">
                <a:solidFill>
                  <a:srgbClr val="000000"/>
                </a:solidFill>
                <a:latin typeface="Arial"/>
              </a:rPr>
              <a:t>、培养成本或称生产成本，即学校为培养一定数量和层次的学生所支出的一切开支和耗费；</a:t>
            </a:r>
            <a:r>
              <a:rPr b="0" lang="en-US" sz="3200" spc="-1" strike="noStrike">
                <a:solidFill>
                  <a:srgbClr val="000000"/>
                </a:solidFill>
                <a:latin typeface="Arial"/>
              </a:rPr>
              <a:t>2</a:t>
            </a:r>
            <a:r>
              <a:rPr b="0" lang="zh-CN" sz="3200" spc="-1" strike="noStrike">
                <a:solidFill>
                  <a:srgbClr val="000000"/>
                </a:solidFill>
                <a:latin typeface="Arial"/>
              </a:rPr>
              <a:t>、增量成本，即学生为学习或读书所增加支付的那部分生活费用；</a:t>
            </a:r>
            <a:r>
              <a:rPr b="0" lang="en-US" sz="3200" spc="-1" strike="noStrike">
                <a:solidFill>
                  <a:srgbClr val="000000"/>
                </a:solidFill>
                <a:latin typeface="Arial"/>
              </a:rPr>
              <a:t>3</a:t>
            </a:r>
            <a:r>
              <a:rPr b="0" lang="zh-CN" sz="3200" spc="-1" strike="noStrike">
                <a:solidFill>
                  <a:srgbClr val="000000"/>
                </a:solidFill>
                <a:latin typeface="Arial"/>
              </a:rPr>
              <a:t>、机会成本，即学生因为学习而未能参加工作等带来的机会损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Arial"/>
              </a:rPr>
              <a:t>一、研究成果的主要内容及主要观点</a:t>
            </a:r>
            <a:br>
              <a:rPr sz="3200"/>
            </a:br>
            <a:endParaRPr b="0" lang="en-US" sz="32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从学校而言，办学成本往往被视为学校为培养学生支出的费用，其他两项则忽略不计，即以培养成本代替教育成本。效益是人们在各项经济活动中应当首先遵循的原则，各种投入都要讲效益，并且尽可能以较少的投入取得较多、较好的产出，以满足人们的需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Arial"/>
              </a:rPr>
              <a:t>一、研究成果的主要内容及主要观点</a:t>
            </a:r>
            <a:br>
              <a:rPr sz="3200"/>
            </a:br>
            <a:endParaRPr b="0" lang="en-US" sz="32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但是，我们认为，对于效益的不同理解，影响着人们对效益的不同评价。遵循什么样的效益观，以及对效益的关注程度，决定了人们对投入行为或方向的选择，从而决定着人们对于教育成本采取什么样的管理模式。</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研究成果的主要内容及主要观点</a:t>
            </a:r>
            <a:endParaRPr b="0" lang="en-US" sz="32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成本—效益分析作为一种经济决策方法，将</a:t>
            </a:r>
            <a:r>
              <a:rPr b="0" lang="en-US" sz="3200" spc="-1" strike="noStrike" u="sng">
                <a:solidFill>
                  <a:srgbClr val="009999"/>
                </a:solidFill>
                <a:uFillTx/>
                <a:latin typeface="Arial"/>
                <a:hlinkClick r:id="rId1"/>
              </a:rPr>
              <a:t>成本费用</a:t>
            </a:r>
            <a:r>
              <a:rPr b="0" lang="zh-CN" sz="3200" spc="-1" strike="noStrike">
                <a:solidFill>
                  <a:srgbClr val="000000"/>
                </a:solidFill>
                <a:latin typeface="Arial"/>
              </a:rPr>
              <a:t>分析法运用于高职院校的计划决策之中，以寻求在</a:t>
            </a:r>
            <a:r>
              <a:rPr b="0" lang="en-US" sz="3200" spc="-1" strike="noStrike">
                <a:solidFill>
                  <a:srgbClr val="000000"/>
                </a:solidFill>
                <a:latin typeface="Arial"/>
              </a:rPr>
              <a:t>决策</a:t>
            </a:r>
            <a:r>
              <a:rPr b="0" lang="zh-CN" sz="3200" spc="-1" strike="noStrike">
                <a:solidFill>
                  <a:srgbClr val="000000"/>
                </a:solidFill>
                <a:latin typeface="Arial"/>
              </a:rPr>
              <a:t>上如何以最小的成本获得最大的效益。本课题通过对高职院校</a:t>
            </a:r>
            <a:r>
              <a:rPr b="0" lang="en-US" sz="3200" spc="-1" strike="noStrike">
                <a:solidFill>
                  <a:srgbClr val="000000"/>
                </a:solidFill>
                <a:latin typeface="Arial"/>
              </a:rPr>
              <a:t>成本效益的分析</a:t>
            </a:r>
            <a:r>
              <a:rPr b="0" lang="zh-CN" sz="3200" spc="-1" strike="noStrike">
                <a:solidFill>
                  <a:srgbClr val="000000"/>
                </a:solidFill>
                <a:latin typeface="Arial"/>
              </a:rPr>
              <a:t>研究，给高职院校降低办学成本、提高办学效益、比较项目的全部成本和效益来评估项目价值提供了参考，具有理论与实践意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研究成果的主要内容及主要观点</a:t>
            </a:r>
            <a:endParaRPr b="0" lang="en-US" sz="32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研究成果的主要观点</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a:t>
            </a:r>
            <a:r>
              <a:rPr b="0" lang="zh-CN" sz="3200" spc="-1" strike="noStrike">
                <a:solidFill>
                  <a:srgbClr val="000000"/>
                </a:solidFill>
                <a:latin typeface="Arial"/>
              </a:rPr>
              <a:t>明晰教育产权，优化教育资源配置。这是从根本上减少教育成本非效益、防范教育成本不效益，提高教育成本效益的体制保障。</a:t>
            </a:r>
            <a:r>
              <a:rPr b="0" lang="en-US" sz="3200" spc="-1" strike="noStrike">
                <a:solidFill>
                  <a:srgbClr val="000000"/>
                </a:solidFill>
                <a:latin typeface="Arial"/>
              </a:rPr>
              <a:t>  </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Arial"/>
              </a:rPr>
              <a:t>一、研究成果的主要内容及主要观点</a:t>
            </a:r>
            <a:br>
              <a:rPr sz="3200"/>
            </a:br>
            <a:endParaRPr b="0" lang="en-US" sz="32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加大信息披露力度，公开教育成本信息。防范教育成本不效益、提高教育成本效益的社会监督机制。主要包括：制定包括教育成本在内的财务信息披露制度尤其是要面向利益相关者及时披露财务信息：建立以教育主管部门为主的信息披露监管制度。</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8T14:48:29Z</dcterms:created>
  <dc:creator>Administrator</dc:creator>
  <dc:description/>
  <dc:language>en-US</dc:language>
  <cp:lastModifiedBy>Administrator</cp:lastModifiedBy>
  <dcterms:modified xsi:type="dcterms:W3CDTF">2017-01-08T15:11:16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