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4A2-9665-4064-924F-9AA1FD3C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250-CF0F-466E-B1F1-95277DD8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6A9-AABA-4766-ACD2-4DBBCCDC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F67-5F35-4277-ADD3-0B55C013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0577-9B98-4C5D-BE4F-E85BC2C1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E371-62DC-4520-B5CD-FBA9953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40DE-2F16-4EB6-91DE-5C87C5B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F401-52F1-4335-BF71-4FF10C5F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CB1-8D46-4730-96C0-1B77B68E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A322-2B26-408C-B18A-87C54F4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A26-1C65-43A5-861B-E6AF1F81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A20-DF91-4250-9169-9B5CBA9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A10C-77D3-4F1A-9564-076C263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4A9F-F2D3-4D5A-8081-48612C3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3C69-A89D-4960-B1A8-7F8F49A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7CF7-796D-4F6B-B0D2-94787038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B35F-551D-4D60-B724-21335843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CFD-A72F-4817-A774-1934D275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842-07A2-4CA5-B81B-AC56235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BF6-BBA5-4D0E-A4D0-4DC6DEC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077-27FD-46C5-84CA-E9D1FFEC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79E-08CA-48A4-B298-AD65AD3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422-9BBA-417C-8478-DEDE03D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F59-2FCC-429E-8EA0-0DE9E71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A3F5-9459-4096-B550-74811117DC9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72A4-BE5A-4EF5-8FA3-E682B37D1C9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2016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年院级课题阶段性成果汇报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曾立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三、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对接产业办专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研究结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对接服务益阳区域经济，无论办什么专业均有一定风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提升和改造现有专业是正确的选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三、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对接产业办专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研究动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益阳市科技局已立项课题：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“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中西部地区职业院校专业建设对接区域产业发展的实证研究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四、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专业建设如何提升引领产业发展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现状分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“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栽下梧桐树，引得凤凰来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四、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专业建设如何提升引领产业发展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实证研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  <a:ea typeface="楷体_GB2312"/>
              </a:rPr>
              <a:t>湖南省经信委专项资金重大产业项目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湖南省海洋工程装备及高技术船舶产业发展协同创新中心建设项目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  <a:ea typeface="楷体_GB2312"/>
              </a:rPr>
              <a:t>省教育厅职成处教研教改立项：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高职船舶特色专业群建设引领湖南船舶制造产业发展的实证研究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楷体_GB2312"/>
              </a:rPr>
              <a:t>谢 谢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课题名称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我院对接区域产业之专业建设研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  <a:ea typeface="楷体_GB2312"/>
              </a:rPr>
              <a:t>课题负责人：潘访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一、课题研究目标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探讨对接服务区域产业办什么专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探讨专业建设如何提升引领区域产业发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二、已开展调研工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文献调查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益阳产业发展规划，统计年报，益阳市委政府的产业扶持政策（益阳市重大建设项目），洞庭湖生态经济区发展规划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二、已开展调研工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行业调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第一产业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粮食产业，牧业，林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第二产业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装备制造业，电子信息产业，食品行业，电力行业，竹木加工业，丝织行业，有色金属冶炼业，化学行业，造纸及纸制品业，建材行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二、已开展调研工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行业调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第三产业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交通运输、仓储邮政业，信息传输、计算机服务和软件业，批发和零售业，住宿餐饮业，金融业，房地产业，租赁和商务服务业，科学研究、技术服务和地质勘查业，水利、环境和公共设施管理业，居民服务和其他服务业，教育，卫生、社会保障和社会福利业（养老产业），文化、体育和娱乐业，公共管理与社会组织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二、已开展调研工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行业调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战略性新兴产业：新一代信息技术，新能源，新材料，节能环保，高端装备，生物产业，新能源汽车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传统优势产业：船舶，渔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二、已开展调研工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研究结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第一产业粮食、牧业已介入，林业我院没有优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第二产业三大产业我院已介入前两个即装备制造业和电子信息业，食品行业可慎重介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第三产业不具备深度介入切入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传统优势产业船舶产业、渔业在提升引领为前提下可切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三、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对接产业办专业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理论分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职业教育以就业为导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4:48:16Z</dcterms:created>
  <dc:creator>微软用户</dc:creator>
  <dc:description/>
  <dc:language>en-US</dc:language>
  <cp:lastModifiedBy>微软用户</cp:lastModifiedBy>
  <dcterms:modified xsi:type="dcterms:W3CDTF">2017-01-09T05:53:23Z</dcterms:modified>
  <cp:revision>3</cp:revision>
  <dc:subject/>
  <dc:title>2016年院级课题阶段性成果汇报</dc:title>
</cp:coreProperties>
</file>